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EF4-CA0B-4BE9-BB46-4FEC3DD7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0A6-27C4-4998-AB2F-6E84C931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BBB-5B95-4536-81CA-AB7A4932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C78-9640-4274-BED9-14AF3D5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0D0F-675D-4C79-BDD6-88FD3BAD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CEC-D166-45B4-B456-24E4F16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5C60-0618-4450-B6AF-574E32D6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A02-439B-4BF1-BF74-9CE80A3A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5BE-0560-4E0F-AB28-151A8A38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310-38B2-438E-9230-23653BFA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2C02-214E-4746-A030-D37D8E5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226-A864-4262-AC41-2192FC99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E7A1-C45D-42FA-93CB-5057201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8597-BEF8-4C40-A5B1-4891DF7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0ED5-74BD-4895-BD49-7494EB6C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240F-BF53-498F-9D3D-42E274C7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A8DF-B81E-4779-9E9F-062BA8A8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6327-C968-42A3-8FC6-0F26AF70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B71F-A729-4201-BE78-67C66787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1460-0B6A-4A3D-BC69-6F4C6F26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E6D8-86CB-4CCD-A7CF-535A4B5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3A1D-F83E-4F05-BAAD-99288559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B3E-0ACE-4387-A996-D1CDB150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BD93-24AD-4EB0-A416-E3671E80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CBA3-E5B8-4316-9F99-FB25800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39AC-2A49-417C-90F3-FABA935E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8E86-9D22-4521-9795-C82AB38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5A70-A4C6-4611-AB46-9624DE4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5EA1-F63A-44DE-A367-C10C89B4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E727-0CCA-4B81-B840-27EBF9D1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5ABE-1077-478C-A64F-8863750B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6627-F9E7-490E-B69B-CBBBD66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ABE8-6563-4B1F-99F5-174696F1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62E-A1FB-4891-9E3F-173EC92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F61D-A360-4A1C-82CE-5F778111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D2D5-8D83-41B1-81DD-2F9A7F87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65E3-B5B3-47DB-AA90-F99B3289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4AC7-3438-4BD4-ABCB-C336461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69B1-D0D9-4A86-B4E1-19B0D12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C1F3-9356-4A2D-801C-6310CB8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21B7-EDAC-41D6-B915-8CAE5F4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7C14-795A-4748-BB4F-5BD50FB5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161C-5ABA-4D8B-A0EB-29291501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8D6D-63C3-4F34-AC10-CE57DA79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9E0-6732-4A29-87E4-DB438249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3C62-D0B9-4E89-B08D-74E8FBAE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E964-6E17-4FDF-B78A-83A05033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24DD-7431-4484-BB52-8C61211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A285-CE12-4073-80B4-7895459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974C-951B-4E44-8CD4-9E92A9FD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EE86-C148-4A0A-A6FC-D6B6AE8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3B083-568E-4310-A0D8-433A1A4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99E6-7C11-400A-98EB-4ABE324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A12B-8EE3-4BFA-95E6-5DABA348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3BAA-1A31-4275-ADDA-E8F2BD6F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F60-1678-48AD-B585-D7F18F60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9F73F-09F5-439F-8767-3B973EFE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A865E-3563-4888-9D8C-157427B9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E14C-E1AD-4362-8F1C-686B10C2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A1130-1D46-4998-9C7E-7AC5430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68B2-7EF3-4916-81E6-8A42C3E5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A748-2BE7-4CE9-92DB-C5C680C4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523B9-4B3E-4BD5-9490-430F74BA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F30F-F6DD-4719-BFA0-DAA9B39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0E90-5283-4E4F-B0BA-3B0EF25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6A83-6860-44E5-9724-85362E78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803-3F4E-4B98-8DC0-D0E9FA5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C345-1BAD-4D24-A90E-0F5AB53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33F0-EA47-4814-AC28-42382526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D8404-CEBB-44FC-BA93-3875D7AF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C55-A07C-4A35-B84C-496C4C1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C60-CD44-480C-BC29-9340A67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1C2-E7FE-4CE2-82FE-AF65ED728F4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3EBA-926E-4A69-81D2-F9EC75B9CC1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136B-DFB4-4A24-BC6A-D657E7DE9DD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C18-3D8F-4F6F-A000-BFEE6EC0BE8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292-03FA-4C13-A87C-04A476C2C7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379-D60C-4F57-9C5F-0E22573DD4B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2133720" y="91440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819000" y="2590920"/>
            <a:ext cx="750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о-предметной  сред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5791320" y="45720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студен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36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ан М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4"/>
          <p:cNvSpPr txBox="1"/>
          <p:nvPr/>
        </p:nvSpPr>
        <p:spPr>
          <a:xfrm>
            <a:off x="380880" y="380880"/>
            <a:ext cx="4953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новной  вопрос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385920" y="685800"/>
            <a:ext cx="7615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онно- предметная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5715000" y="28954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еда -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91440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52f7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можность и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52f7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WordArt 8"/>
          <p:cNvSpPr txBox="1"/>
          <p:nvPr/>
        </p:nvSpPr>
        <p:spPr>
          <a:xfrm>
            <a:off x="4038480" y="5181480"/>
            <a:ext cx="464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52f74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бходимость ?</a:t>
            </a:r>
            <a:endParaRPr b="0" lang="en-US" sz="1800" spc="1" strike="noStrike">
              <a:ln w="0">
                <a:noFill/>
              </a:ln>
              <a:solidFill>
                <a:srgbClr val="852f74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ак влияет персональный компьютер на здоровье ребенка-дошкольник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пьютерно - игровой комплекс -  условие эффективности обучен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ак влияют компьютерные игры на развитие математических представлений дошкольников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ак организовать информационно- предметную среду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914400" y="5335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блемные 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.Формирование интереса студентов к использованию информационных технологий в рамках информационно-предметной сред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. Развитие самостоятельности в учебном процессе новых информационных технолог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. Развитие исследовательских умений. Формулирование проблемы, поиск информации, представление результатов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WordArt 5"/>
          <p:cNvSpPr txBox="1"/>
          <p:nvPr/>
        </p:nvSpPr>
        <p:spPr>
          <a:xfrm>
            <a:off x="1828800" y="60948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идактические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88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 Привлекать педагогов к самостоятельному поиску и анализу технологий развития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2. Научить использовать в сво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й работе разнообразные источники информаци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3. Способствовать овладению педагогами научно-исследовательскими умения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4. Содействовать развитию научно-методического кругозора педагогов, побуждая к самообразованию и саморазвити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685800" y="30492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одические 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рмулировка и обсуждение тем творческих проек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рмирование микрогрупп для проведения исследова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ланирование работы в группа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иск информации по темам исследова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ая работа студентов над про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готовка отчетов, выбор формы представления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щита творческих проек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WordArt 4"/>
          <p:cNvSpPr txBox="1"/>
          <p:nvPr/>
        </p:nvSpPr>
        <p:spPr>
          <a:xfrm>
            <a:off x="4724280" y="762120"/>
            <a:ext cx="4800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Этапы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74"/>
          <p:cNvSpPr txBox="1"/>
          <p:nvPr/>
        </p:nvSpPr>
        <p:spPr>
          <a:xfrm>
            <a:off x="1447920" y="609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тактная  информа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Text Box 75"/>
          <p:cNvSpPr/>
          <p:nvPr/>
        </p:nvSpPr>
        <p:spPr>
          <a:xfrm>
            <a:off x="838080" y="2438280"/>
            <a:ext cx="7696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: Республика Коми, г.Сыктывкар, ул.Коммунистическая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фон: 8-800-300-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5-19T13:04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